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B2E-56D1-4FF7-ADB3-F14AC808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5C1-D9BB-4786-9339-1BCF5B0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06D-7E95-485D-8723-CF6E8E0D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19B-E30A-43A4-8AC7-9F44FB09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E567-23BB-4025-93AE-53DFBEDC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18D5-CCB3-42A2-99DE-CEA689A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43FF-009D-4A97-9BE1-BD87ADF4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4982-78C3-461A-935F-BF2FFAAA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F070-9465-48F8-BA91-5ABDF22C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8D7-A672-4F2C-9D85-E0D09D6F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B6DB-0CEE-4E29-BAF8-091B003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3BF-B781-4D91-AFCC-47E7930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4EC-6695-4553-9762-F273681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CD22-2551-4DD0-9F1F-36AA589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E7C0-C72C-48F7-97C5-16E76F3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56F-C7F5-46D9-B9EE-EAFFFFDB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1DD1-D2E1-4CC4-8967-4C02F19A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3C3-560A-4A6B-A05B-41BE6A6E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FB3-D6DB-4C69-8AAF-B8FCFAF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39A-95F5-4280-80D3-1809F72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084-603A-4759-B013-DA7EDBA4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2E2-50F5-40E6-A6EE-21A7D7C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D6B-8EE2-466B-949D-6D50FFF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134-714F-4CDD-935D-DAE929D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61B9-1E59-4AFE-BBFF-2748DB1B47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FF6-B33A-4FE4-A9D9-7CA84169A2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Judges 2:6-3:6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verview of the Period of the Judg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373392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5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eview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first judge, Othniel, and his ene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hud vs. the Moabites, Ammonites, and Amalek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amgar vs. the Philis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Deborah vs. the Cana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219320"/>
            <a:ext cx="426744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208160"/>
            <a:ext cx="3771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44480"/>
            <a:ext cx="8077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us of Israel (2:6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ossessed the 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died at 1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had peace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aithful until the elders (older leaders)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generation arose that knew not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828800"/>
            <a:ext cx="8001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asy (2:11-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“did evil in the sight of the Lo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 and Ashta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oked the Lord to a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elivered them to spo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old them to their ene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greatly dist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600200"/>
            <a:ext cx="7620120" cy="51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term “jud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ir work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secure blessing for God’s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deliver them out of the hand of those that spoiled (robbed)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ccess conditional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erving God, or serving ido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Cycle of Israel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The people worship the gods of other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God allows other nations to oppress Isra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- The people turn to God for hel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God raises up a leader to deliver them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 ... and this leader becomes the Judge or Governor of Israel for several yea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- in peace, until the people strayed from God again... again and again for 13 time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1600200"/>
            <a:ext cx="7772400" cy="49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Nations left to test Israel (3:1-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, the younger generation knew not war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to be prepared for confl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required to purge the land (3:4-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they dwelt among the nation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 their worship with the hea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arried with the heath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 (15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585324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dr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een word outline” from Judges 1 through 1 Samuel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member Recurring Cycle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160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048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/O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286000"/>
            <a:ext cx="5943600" cy="411480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1-29T15:00:23Z</dcterms:modified>
  <cp:revision>34</cp:revision>
  <dc:subject/>
  <dc:title>Joshua 20 - 24 Inheritance for the Levites</dc:title>
</cp:coreProperties>
</file>